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14488-2D0D-46E2-AC0B-C2F08A3F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579F1-D98E-4E46-A44B-B9C44ADD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55503-F76B-4A8C-834C-4D12A8F6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8798-ED4F-41E6-800F-0ABF18B5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C4A4-F69D-465D-A415-F0D5AA67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5F7C-2B78-4731-BBCC-869ABBF5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4AD1-8BCA-4A76-AD9A-F052A05B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2BEB-E388-492C-9A66-894FC07A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20A1-7831-4F3D-B27E-18F8F528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EE93-AEB3-4026-BE90-5BF3E831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6C00-F030-4C0B-BC07-99C5986A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261F4-5DD0-4396-86ED-75537CD7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9845-CC51-462B-9E69-6297CEA5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BE60-BB4F-4BC8-8963-CE0FBA1F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0DC4-EB35-4B15-8E9F-3B704B19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C5FF-77E0-4F8A-BD61-4DFEE201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D207-E6DA-47C6-AC26-54622694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F14B4-E4A6-4D21-984D-F9B60812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4B5C8-B7B9-499E-BCC9-C2A4D89B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2AE5E-D198-4D25-97BD-89E2A181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14A94-23E5-414B-98BC-4CF5C803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C76A5-2979-4E86-B6C5-99710C34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FFD44-07C1-467D-B9CB-49F92126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2515B-FF4E-4BD4-9526-C8486227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678A-89C0-4F37-B689-FBA8D7758F8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E058-73EF-4B79-8782-735AC5E7E7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alloween Nigh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Madeli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32448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alloween night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a chilly October night….When I heard something scary the noise was a voice saying….give me cand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alloween nigh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looked everywhere, but nobody was there, until I looked down.  There was a little monster!  Then I screamed and fainted! An hour later I was fine. But then I saw the monster again .Then I ran home and I saw the calendar. I said it was Halloween I screamed with excitement. but nobody was home felt sad ……the 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6:23:03Z</dcterms:created>
  <dc:creator>student</dc:creator>
  <dc:description/>
  <dc:language>en-US</dc:language>
  <cp:lastModifiedBy>student</cp:lastModifiedBy>
  <dcterms:modified xsi:type="dcterms:W3CDTF">2010-10-28T17:57:06Z</dcterms:modified>
  <cp:revision>6</cp:revision>
  <dc:subject/>
  <dc:title>Halloween night</dc:title>
</cp:coreProperties>
</file>